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DC2-64E8-409B-8332-1DA80753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C62-D7C0-4932-A40E-EAAACE36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692-963E-4A36-A486-19F8EF4F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89D-2471-4CB4-8BB5-5F3A1DF3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BF9-02C3-4C85-8B91-EAF2CB56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A19-4F9D-46BB-8890-83E68F3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F43-84EF-4E01-BA5D-670CB301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87D-0FFD-4445-913E-D55C2CC9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19E-F4D6-4374-AE7D-753783C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FE0-8117-4B99-B0F7-A563A72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314-C03C-483A-92FC-E95D166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63C-A4D7-4021-8425-F118F1ED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5742C-D905-46E4-B297-68B189C8E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98600" y="287280"/>
            <a:ext cx="540072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Ocean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60360" y="1768320"/>
            <a:ext cx="9539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e6e6ff"/>
                </a:solidFill>
                <a:latin typeface="Arial"/>
              </a:rPr>
              <a:t>Please sit and relax as                                            we begin our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03280" y="287280"/>
            <a:ext cx="540072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Ocean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32:32Z</dcterms:created>
  <dc:creator/>
  <dc:description/>
  <dc:language>en-US</dc:language>
  <cp:lastModifiedBy/>
  <dcterms:modified xsi:type="dcterms:W3CDTF">2009-04-16T18:32:35Z</dcterms:modified>
  <cp:revision>2</cp:revision>
  <dc:subject/>
  <dc:title/>
</cp:coreProperties>
</file>